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90A-05A4-4B18-B49C-532BD726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B78-8177-4EBC-8A66-4F10463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301-40C8-4AA0-816C-256F1E74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879-A3A4-466B-80CF-72DBF8AD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19D-08E7-4A24-901A-4B524F57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240-20D2-4396-8954-24A4F17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9BF-8791-413F-96E8-0C37EC60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4007-8514-42B3-BC25-B9E5343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5E12-BF16-4248-881B-BFE1A189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A38-8F7D-48C2-AD48-BFD3CC2D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0A9-F665-47BF-802B-DD2F2BE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6BF-46A0-4E57-A144-4A077FE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CF7D-B29F-4A64-A9A8-4A1F3375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D542-E870-48B9-B380-77415EB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14E9-D00D-4718-BA98-5B99A00A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7D65-C6BE-4805-BECC-BD4E0379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0CFB-FA8F-4CE0-9F62-0BA02589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EAA-F4C7-4061-A14F-BDE135A4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940-6D6B-4187-8964-B74A6DFE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F50-4407-486F-B452-542C6A63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973-1148-4E0B-9A23-0BAA3F1E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C1C-0247-431D-96BD-280FDE27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2EF-83F5-498B-8344-62DD72A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D79-C59F-4306-9BDB-FFDA066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68F-22C3-4B41-85ED-618FBC0E2B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EF61-AB02-4246-916F-9E3DD17A1A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77058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著作権、あなたならどうする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427280" y="5229360"/>
            <a:ext cx="4105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栃木県立鹿沼東高等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情報・数学科　　山﨑貴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作業手順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１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自分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つの答えの中から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最もよいと思えるものを１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選んでください。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簡単な理由も記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２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グループで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話し合い、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グループとしての考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まとめてください。 （１５分）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★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安易な妥協はし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ようにしてくださ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（正解発表と採点　５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３．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話し合いの様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と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感じたこ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を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発表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してください。（まとめ５分、発表各グループ１分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質問１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雑誌や新聞の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イラストやカットをコピー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し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学級新聞に掲載しよう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と思います。これでいいですか。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学校内で使うので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問題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学校内ではい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が、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学校の外に配るときは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雑誌や新聞を作成した人（著作権を持っている人）に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許可をもらわないといけない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雑誌や新聞を作成した人（著作権を持っている人）に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許可をもらわないといけ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869000"/>
            <a:ext cx="7920000" cy="15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他人の著作物を勝手に使うことはできません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許諾をとる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ことが必要で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ahoma"/>
              </a:rPr>
              <a:t>質問２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運動会や文化祭で使う立て看板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かんばん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に</a:t>
            </a: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人気アニメのキャラクターを描く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ことになりました。これでいいですか。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由に使ってよ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著作者に許可を得れば使うことができ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分たちで描くのではなく、大きくコピーし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使うことはよ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653000"/>
            <a:ext cx="7920000" cy="15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他人の著作物を勝手に使うことはできません。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許諾をとる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ことが必要で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３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美術の時間に作った彫刻が、たまたま友達が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作ったものと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同じような作品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になってしまいました。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でも、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まねをしたわけではない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ので、自分の著作物として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認められると思います。これでいいで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自分の著作物として認められ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先に作品を完成させた人の著作物にな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彫刻は著作物にならないので問題は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653000"/>
            <a:ext cx="7920000" cy="116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正解　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自分で創造した</a:t>
            </a:r>
            <a:r>
              <a:rPr b="0" lang="zh-CN" sz="2800" spc="-1" strike="noStrike">
                <a:solidFill>
                  <a:srgbClr val="ffff00"/>
                </a:solidFill>
                <a:latin typeface="Tahoma"/>
              </a:rPr>
              <a:t>ものであるので、同じような作品でもそれぞれの作者に著作権がありま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ahoma"/>
              </a:rPr>
              <a:t>質問４　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生徒が書いた作文を、先生が内容の一部を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勝手に変えて発表する</a:t>
            </a:r>
            <a:r>
              <a:rPr b="1" lang="zh-CN" sz="2400" spc="-1" strike="noStrike">
                <a:solidFill>
                  <a:srgbClr val="eaeaea"/>
                </a:solidFill>
                <a:latin typeface="Tahoma"/>
              </a:rPr>
              <a:t>ことは許されない。これでいいですか。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353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徒の作文の著作権は生徒本人にあるので、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先生は勝手に変えたり発表したりすることはでき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先生は生徒の作文を勝手に変えることはできるが、発表はできな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徒が書いた作文を、先生が内容の一部を勝手に変えて発表することは許されている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653000"/>
            <a:ext cx="7920000" cy="202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正解　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児童生徒の著作物を勝手に公表したり改編したり</a:t>
            </a:r>
            <a:br>
              <a:rPr sz="2800"/>
            </a:b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することは、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先生といえども</a:t>
            </a:r>
            <a:r>
              <a:rPr b="0" lang="ja-JP" sz="2800" spc="-1" strike="noStrike">
                <a:solidFill>
                  <a:srgbClr val="ffff00"/>
                </a:solidFill>
                <a:latin typeface="Tahoma"/>
              </a:rPr>
              <a:t>許されません。</a:t>
            </a:r>
            <a:r>
              <a:rPr b="0" lang="ja-JP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これだけは・・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著作物を利用するとき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997360"/>
            <a:ext cx="75438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ahoma"/>
              </a:rPr>
              <a:t>許諾</a:t>
            </a:r>
            <a:r>
              <a:rPr b="0" lang="zh-CN" sz="10600" spc="-1" strike="noStrike">
                <a:solidFill>
                  <a:srgbClr val="ffff00"/>
                </a:solidFill>
                <a:latin typeface="Tahoma"/>
              </a:rPr>
              <a:t>を得る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5157720"/>
            <a:ext cx="5616360" cy="1366920"/>
          </a:xfrm>
          <a:prstGeom prst="wedgeRoundRectCallout">
            <a:avLst>
              <a:gd name="adj1" fmla="val 14245"/>
              <a:gd name="adj2" fmla="val -84842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「○○の目的に使用してもよろしいですか？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1:41:14Z</dcterms:created>
  <dc:creator>Takashi Yamazaki</dc:creator>
  <dc:description/>
  <dc:language>en-US</dc:language>
  <cp:lastModifiedBy>Takashi Yamazaki</cp:lastModifiedBy>
  <dcterms:modified xsi:type="dcterms:W3CDTF">2005-12-04T05:02:41Z</dcterms:modified>
  <cp:revision>7</cp:revision>
  <dc:subject/>
  <dc:title/>
</cp:coreProperties>
</file>