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89D-EEEA-495E-9F78-D01898FB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80A-894A-4971-8399-86AF5773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337-9CA3-4082-A92A-5EE22A19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68D-7833-4EEB-8D81-B93F0EC7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345-2BC6-47FD-AAAA-C8C1800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9FA7-DC00-4ABA-BC9F-2D042CC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45DE-3EB6-495E-8AAC-3FD92804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773E-1CEE-4A5F-B326-A1CF888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CBC8-A200-47E6-89BD-E78E5C77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55FA-F809-4EE5-9F74-9E028BD5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0341-196C-4C68-AC27-24D6F8D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D82-B984-4B25-AA64-F4F64D99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A80-338C-4F8E-8500-B3EAC6F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7FAB-F2E5-4292-BCB0-0593217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4B51-67F9-4A69-A6DA-5602654E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0051-EA22-4FE1-ABCE-2CD817A0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1DC-7B77-4DB4-959E-517106FE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81C-0EED-40B6-89A1-44224A2F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213-9B5B-4D60-8E2A-856897E3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704-7751-4C3A-9C16-EB14CE51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FFC-CEA6-4EF6-AA9B-C5EBFB84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2D7-CE3F-4152-BBF4-1354E79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E50-140D-488B-ABB1-5248549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49D-E37A-4830-B35B-40BF6E7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9ED-5F8F-4C9E-A432-B82474CFA6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C21-0665-40A1-80ED-AC3EBC8A27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4428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　　　ネット利用</a:t>
            </a:r>
            <a:br>
              <a:rPr sz="4400"/>
            </a:b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あなたならどうする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427280" y="5229360"/>
            <a:ext cx="410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栃木県立鹿沼東高等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情報・数学科　　山﨑貴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115740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手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＜前半＞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１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がいつも学校の仲間と利用しているインターネットの掲示板を見ていたら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親友のＡさんがあなたの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悪口を書き込んでい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のを見つけ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 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に連絡し、すぐに書き込みを削除させ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何か自分にいけないことがあったのか一人で悩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に悪口を書き込まれたことを他の友達や大人に相談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一人で悩んだり当事者同士で解決しようとしないで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第三者に間に入ってもらう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と良いでしょ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２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は、アンケートに答えると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豪華賞品が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もれなくもらえ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いうホームページを見つけ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アンケートに答え、親や友達には秘密にしてお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友達や親にどうしたらよいか相談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何か怪しいと思えるのでアンケートには答え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アンケートがどんな目的で使用されるのかがよくわからない場合は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相談しましょう。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３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の携帯電話に送られてきたメールに表示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されていた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RL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を何気なくクリックしたら、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有料サイトの登録完了画面がでてしまい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冷静に、無視す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できるだけ早く、取り消しのメールを返信するか、電話をかけて断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アクセスしてしまった自分が悪いので、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親に相談して料金を支払ってもら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申し込み内容を再確認するための画面が表示されなかった場合や、契約申込みのボタンをクリックしていない場合は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契約に同意したことにはなりません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４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あなたは親友Ａさんから、Ａさんがあこがれている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男子Ｂくんの写真を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携帯電話で撮影してきて欲しい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頼まれました。あなたならどうしま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親友の頼みなので、こっそり撮影してあげ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Ａさん自身で撮影するように話して断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くんの許可を得て、撮影させてもら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653000"/>
            <a:ext cx="7920000" cy="202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Ｂくんに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無断で撮影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することは、あなたもＡさん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できません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得るのは難しいかもしれませんが・・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＜後半＞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これだけは・・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トラブルに巻き込まれそうになった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227664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冷静に対応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189000"/>
            <a:ext cx="3816360" cy="1366920"/>
          </a:xfrm>
          <a:prstGeom prst="wedgeRoundRectCallout">
            <a:avLst>
              <a:gd name="adj1" fmla="val -46171"/>
              <a:gd name="adj2" fmla="val 70907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あわてて一人で対応しな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36572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ahoma"/>
              </a:rPr>
              <a:t>それでも困ったら・・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86900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大人に相談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3860640"/>
            <a:ext cx="3240360" cy="1152720"/>
          </a:xfrm>
          <a:prstGeom prst="wedgeRoundRectCallout">
            <a:avLst>
              <a:gd name="adj1" fmla="val -67296"/>
              <a:gd name="adj2" fmla="val 56337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先生・保護者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あなたの味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1:41:14Z</dcterms:created>
  <dc:creator>Takashi Yamazaki</dc:creator>
  <dc:description/>
  <dc:language>en-US</dc:language>
  <cp:lastModifiedBy>Takashi Yamazaki</cp:lastModifiedBy>
  <dcterms:modified xsi:type="dcterms:W3CDTF">2005-12-05T08:08:32Z</dcterms:modified>
  <cp:revision>10</cp:revision>
  <dc:subject/>
  <dc:title/>
</cp:coreProperties>
</file>