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DD1-1063-4846-AFB3-340E0B0A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449-8000-48AF-82C0-9EF13AAA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5B0-6173-4055-91F0-354D8CBA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05D-4CA1-4BAD-92DE-42D9A470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EE40-B453-4323-8C70-60B7F653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83E9-A47F-4161-B812-78FA96D9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BF08-C93E-439E-8C69-72D3152D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D9B-6447-40AD-98D2-1168B1CF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4FC9-51DD-4F0C-A89B-D8270CA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E6B2-CE64-4C04-AA3F-B1D691DF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9927-B5DA-4D44-B4AD-F3446BED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3F7-F68F-47F5-B01C-EA2DFBB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455E-E705-4516-BCB3-19A6B17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889F-8739-479E-9B83-9DBA0488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49DE-7A94-42AE-94C5-6B9C582C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4537-9289-46E3-A902-5B845906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7B5F-7D67-4C4B-A782-74350F34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8FD-942A-4289-958D-765B8C53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5CD-C8D9-4EA3-9316-8DC9D479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DEA-0826-4E12-8A59-4198D78C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B00-5FC4-44AD-A5F7-2A40B95D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C0C-E44F-4D0F-AA53-E14209A5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578-F3F0-4549-994C-06D8AE06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E7B-BFA7-4B31-83B7-D5B0CE73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8374-465F-400B-9ADC-E249070F8A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553-E2E9-4955-948E-B2D49412FC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77058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著作権、あなたならどうする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427280" y="5229360"/>
            <a:ext cx="4105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栃木県立鹿沼東高等学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情報・数学科　　山﨑貴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作業手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１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自分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つの答えの中から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最もよいと思えるものを１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選んでください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簡単な理由も記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２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グループ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話し合い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グループとしての考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まとめてください。 （１５分）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安易な妥協はしな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ようにしてくださ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（正解発表と採点　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話し合いの様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と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感じたこ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発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まとめ５分、発表各グループ１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質問１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雑誌や新聞の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イラストやカットをコピー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し、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学級新聞に掲載しよう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と思います。これでいいですか。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学校内で使うので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問題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学校内ではい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が、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学校の外に配るときは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雑誌や新聞を作成した人（著作権を持っている人）に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許可をもらわないといけな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雑誌や新聞を作成した人（著作権を持っている人）に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許可をもらわないといけ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869000"/>
            <a:ext cx="7920000" cy="15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他人の著作物を勝手に使うことはできません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許諾をとる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ことが必要です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質問２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運動会や文化祭で使う立て看板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かんばん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に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人気アニメのキャラクターを描く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ことになりました。これでいいですか。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自由に使ってよ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著作者に許可を得れば使うことができ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自分たちで描くのではなく、大きくコピーし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使うことはよ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653000"/>
            <a:ext cx="7920000" cy="15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他人の著作物を勝手に使うことはできません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許諾をとる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ことが必要です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３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美術の時間に作った彫刻が、たまたま友達が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作ったものと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同じような作品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になってしまいました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でも、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まねをしたわけではない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ので、自分の著作物として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認められると思います。これでいいで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自分の著作物として認められ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先に作品を完成させた人の著作物にな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彫刻は著作物にならないので問題は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4653000"/>
            <a:ext cx="792000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自分で創造した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ものであるので、同じような作品でもそれぞれの作者に著作権がありま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４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生徒が書いた作文を、先生が内容の一部を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勝手に変えて発表する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ことは許されない。これでいいで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8353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生徒の作文の著作権は生徒本人にあるので、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先生は勝手に変えたり発表したりすることはでき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先生は生徒の作文を勝手に変えることはできるが、発表はでき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生徒が書いた作文を、先生が内容の一部を勝手に変えて発表することは許されている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4653000"/>
            <a:ext cx="7920000" cy="202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正解　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児童生徒の著作物を勝手に公表したり改編したり</a:t>
            </a:r>
            <a:br>
              <a:rPr sz="2800"/>
            </a:b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することは、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先生といえども</a:t>
            </a: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許されません。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これだけは・・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著作物を利用するときは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997360"/>
            <a:ext cx="75438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Tahoma"/>
              </a:rPr>
              <a:t>許諾</a:t>
            </a:r>
            <a:r>
              <a:rPr b="0" lang="zh-CN" sz="10600" spc="-1" strike="noStrike">
                <a:solidFill>
                  <a:srgbClr val="ffff00"/>
                </a:solidFill>
                <a:latin typeface="Tahoma"/>
              </a:rPr>
              <a:t>を得る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5157720"/>
            <a:ext cx="5616360" cy="1366920"/>
          </a:xfrm>
          <a:prstGeom prst="wedgeRoundRectCallout">
            <a:avLst>
              <a:gd name="adj1" fmla="val 14245"/>
              <a:gd name="adj2" fmla="val -84842"/>
              <a:gd name="adj3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「○○の目的に使用してもよろしいですか？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1:41:14Z</dcterms:created>
  <dc:creator>Takashi Yamazaki</dc:creator>
  <dc:description/>
  <dc:language>en-US</dc:language>
  <cp:lastModifiedBy>Takashi Yamazaki</cp:lastModifiedBy>
  <dcterms:modified xsi:type="dcterms:W3CDTF">2005-12-04T05:02:41Z</dcterms:modified>
  <cp:revision>7</cp:revision>
  <dc:subject/>
  <dc:title/>
</cp:coreProperties>
</file>