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7DE-1DBF-4843-BC08-DC127FB9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537-093A-4B44-B79D-C8A6EAFE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AB0-BDA8-4E2F-B2C8-4AA45056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275-0090-4CA8-A5D9-FC1FE61A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E97A-B6FA-442B-B5B6-3E3B5058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58E3-FFCC-4B98-A954-CED44104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6F4E-D700-4E6D-8B4F-CDDE0E2B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798D-5E6D-45D7-8808-1A2036D7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8C71-E56C-4AD2-90E3-5FC79372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0123-816B-40AA-AD19-B4C76F1E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F8D5-5701-427E-82A9-E82F9035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2B8-182E-4723-8BC6-7F59A68D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9D60-A3FF-4329-AD74-9804D3B1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511E-FC8D-425F-8021-DCCA01DF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0A99-53DC-48DB-A56B-D36D8034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86EA-5BBB-4A1A-8FE7-183BD2A1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C147-655E-4F98-90E9-EDE3EE76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1FA-B81F-4DCA-9A79-B852C223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84B-3CA8-4624-97B5-BA4506AB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219-40CD-4467-A8E0-5840CE81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FE3-9897-4099-BE19-7A7853DB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8E4-218F-4CAA-94A3-B64E7288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811-0767-4D9E-B9D0-DDF48557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DA7-871C-43E8-ADB8-824CE5B7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D62F-3EFC-4E11-B4BA-F0AD0602E1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CBD7-8BC0-4BC2-8975-EC083699AA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44280"/>
            <a:ext cx="770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　　　ネット利用</a:t>
            </a:r>
            <a:br>
              <a:rPr sz="4400"/>
            </a:b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あなたならどうする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427280" y="5229360"/>
            <a:ext cx="4105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栃木県立鹿沼東高等学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情報・数学科　　山﨑貴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115740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作業手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１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自分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つの答えの中から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最もよいと思えるものを１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選んでください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簡単な理由も記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２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グループ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話し合い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グループとしての考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まとめてください。 （１５分）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安易な妥協はしな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ようにしてくださ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（正解発表と採点　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話し合いの様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と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感じたこ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発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まとめ５分、発表各グループ１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作業＜前半＞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１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自分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つの答えの中から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最もよいと思えるものを１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選んでください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簡単な理由も記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２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グループ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話し合い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グループとしての考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まとめてください。 （１５分）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安易な妥協はしな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ようにしてくださ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（正解発表と採点　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質問１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がいつも学校の仲間と利用しているインターネットの掲示板を見ていたら、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親友のＡさんがあなたの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悪口を書き込んでいる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のを見つけました。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ならどうしますか。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Ａさんに連絡し、すぐに書き込みを削除させ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何か自分にいけないことがあったのか一人で悩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Ａさんに悪口を書き込まれたことを他の友達や大人に相談す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653000"/>
            <a:ext cx="7920000" cy="116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一人で悩んだり当事者同士で解決しようとしないで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第三者に間に入ってもらう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と良いでしょう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質問２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は、アンケートに答えると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豪華賞品が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もれなくもらえる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というホームページを見つけました。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ならどうしますか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400" y="198108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アンケートに答え、親や友達には秘密にしておく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友達や親にどうしたらよいか相談す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何か怪しいと思えるのでアンケートには答え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4653000"/>
            <a:ext cx="7920000" cy="116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アンケートがどんな目的で使用されるのかがよくわからない場合は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相談しましょう。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質問３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の携帯電話に送られてきたメールに表示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されていた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URL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を何気なくクリックしたら、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有料サイトの登録完了画面がでてしまいました。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ならどうしますか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03400" y="198108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冷静に、無視す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できるだけ早く、取り消しのメールを返信するか、電話をかけて断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アクセスしてしまった自分が悪いので、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親に相談して料金を支払ってもら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4653000"/>
            <a:ext cx="7920000" cy="116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申し込み内容を再確認するための画面が表示されなかった場合や、契約申込みのボタンをクリックしていない場合は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契約に同意したことにはなりません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質問４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は親友Ａさんから、Ａさんがあこがれている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男子Ｂくんの写真を、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携帯電話で撮影してきて欲しい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と頼まれました。あなたならどうしますか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03400" y="198108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親友の頼みなので、こっそり撮影してあげ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Ａさん自身で撮影するように話して断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くんの許可を得て、撮影させてもら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4653000"/>
            <a:ext cx="7920000" cy="202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Ｂくんに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無断で撮影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することは、あなたもＡさん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できません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許可を得るのは難しいかもしれませんが・・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作業＜後半＞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話し合いの様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と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感じたこ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発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まとめ５分、発表各グループ１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これだけは・・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5438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トラブルに巻き込まれそうになった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2276640"/>
            <a:ext cx="75438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Tahoma"/>
              </a:rPr>
              <a:t>冷静に対応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189000"/>
            <a:ext cx="3816360" cy="1366920"/>
          </a:xfrm>
          <a:prstGeom prst="wedgeRoundRectCallout">
            <a:avLst>
              <a:gd name="adj1" fmla="val -46171"/>
              <a:gd name="adj2" fmla="val 70907"/>
              <a:gd name="adj3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あわてて一人で対応しな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365720"/>
            <a:ext cx="75438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それでも困ったら・・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869000"/>
            <a:ext cx="75438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Tahoma"/>
              </a:rPr>
              <a:t>大人に相談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3860640"/>
            <a:ext cx="3240360" cy="1152720"/>
          </a:xfrm>
          <a:prstGeom prst="wedgeRoundRectCallout">
            <a:avLst>
              <a:gd name="adj1" fmla="val -67296"/>
              <a:gd name="adj2" fmla="val 56337"/>
              <a:gd name="adj3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先生・保護者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あなたの味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1:41:14Z</dcterms:created>
  <dc:creator>Takashi Yamazaki</dc:creator>
  <dc:description/>
  <dc:language>en-US</dc:language>
  <cp:lastModifiedBy>Takashi Yamazaki</cp:lastModifiedBy>
  <dcterms:modified xsi:type="dcterms:W3CDTF">2005-12-05T08:08:32Z</dcterms:modified>
  <cp:revision>10</cp:revision>
  <dc:subject/>
  <dc:title/>
</cp:coreProperties>
</file>